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FBC-1B92-4A03-B20B-209BF148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329-82DF-41C1-875A-511AB65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46-5A12-43EA-8CD7-680E9C0C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5AD-90CE-4243-A3BE-0D32F873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451-5F71-4C9A-A62D-9FB11D54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49FF-6279-4ED3-95D6-922FC8A9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5C5-0682-429B-9C96-170C9C4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91E-87CA-4022-837A-0644D9FF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754-A3DA-4589-9390-12FDF1D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D207-DEB9-4082-8278-6672E834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E46D-6F0C-4AA9-AD6A-B1E6495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9D2-BD66-44AC-AC3A-3E05CD3A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BD48-3142-4395-967A-A7F49AB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67E-0A7E-41D3-B3E9-A81AC3E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EFD0-BD0D-4CD9-941E-C0FCBFA6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945B-F4E2-4176-88A0-C0B9AF16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D39D-C21C-48AF-B665-5049A78B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284-2378-411E-A12A-41A9699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222-D117-4BFB-AFD6-49A482ED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816-24B5-4552-9F8A-48784646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520-B36A-44AB-9E7D-AC142971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A32-A43D-4909-BC14-5DD22D5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2CA-7613-4945-A19E-D73F907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911-0274-49AE-A6F1-F1DFE713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AB1-0AA6-401B-96D6-F1137CC62C3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9596-A241-4119-BFC3-78D2F98EF8A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: Eva Brukli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garaje. Es grande y bonit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03680" y="2567160"/>
            <a:ext cx="3778200" cy="2303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 Cas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a cocina. Es grande y impresioant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03680" y="1828800"/>
            <a:ext cx="377820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omedor. E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ú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ico y bonit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03680" y="1828800"/>
            <a:ext cx="377820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a sala. Es brillante y impresionant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03680" y="2503440"/>
            <a:ext cx="3778200" cy="248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ño. Es incredible y bell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03680" y="2690640"/>
            <a:ext cx="3778200" cy="2427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uarto. Es grande y bello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03680" y="2503440"/>
            <a:ext cx="3778200" cy="261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patio. Es grande y bonit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33840" y="2260440"/>
            <a:ext cx="3778200" cy="298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Jar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jar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. Es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únic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y grand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19680" y="1828800"/>
            <a:ext cx="3419280" cy="3473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4:21Z</dcterms:created>
  <dc:creator>bruklicheva</dc:creator>
  <dc:description/>
  <dc:language>en-US</dc:language>
  <cp:lastModifiedBy>bruklicheva</cp:lastModifiedBy>
  <dcterms:modified xsi:type="dcterms:W3CDTF">2012-03-28T17:52:11Z</dcterms:modified>
  <cp:revision>8</cp:revision>
  <dc:subject/>
  <dc:title>Mi Casa</dc:title>
</cp:coreProperties>
</file>